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93E-FF9C-4E19-8A7B-BB136318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E03-6549-4EA9-8448-2081403F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BDF-71A5-473A-9E57-F34484EE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20F-814A-4956-A33D-93444BD1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8DF-B4EF-4DAC-B7E1-BF0B3275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366-72E3-4BDB-909D-A11F72B7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1C7-33AE-4703-B2C7-31983CC4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E3D-DECD-4ED3-9248-0CAFE0BA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A9A-21EB-4CAE-80BD-12497A86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11A-266D-43D3-95A2-DD773DB1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FC2-E4E6-4A15-B1DC-0943A80D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169-3373-49F2-9A4E-8A103D6F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882B3-6592-4C70-96F3-6676B49552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B0EB5-4770-4336-B57B-7BC5FD1ED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pushes on a box with a force of ___N, and Victoria pushes from the other side with a force of ___N.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 pushes on a box with a force of ___N, and Kenya pushes from the other side with a force of ___N.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yla pushes on a box with a force of ___N, and Zykiria pushes from the other side with a force of ___N.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vin pulls on a rope with a force of ___N, and Greg pulls from the other side with a force of ___N.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rius pulls on a rope with a force of ___N, and Walt pulls from the other side with a force of ___N. 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k pulls on a rope with a force of ___ N, and Travian pulls from the other side with a force of ____N. 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up and a ___N force pushing 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up and a ___N force pushing dow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to the left and a ___N force pulling to the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up and a ___N force pushing 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up and a ___N  force pushing to the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shing to the right and a ___N  force pushing to the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0:42:2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2-10T03:51:10Z</dcterms:modified>
  <cp:revision>3</cp:revision>
  <dc:subject/>
  <dc:title>Slide 1</dc:title>
</cp:coreProperties>
</file>